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5D0-AB96-44DC-961E-FCCD2D32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781-4AC0-41DA-B41E-B512A7B0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A6F-3D0D-445F-9A08-B046CAB7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FC9-CA99-427E-A110-CFC3DBDC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79D-7E78-4ED9-B4DB-0601A19A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129-0CBD-4B5C-A031-FE567D72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A6B-3031-4151-AEEE-FAEC15AB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7BD-D33B-4C7B-8158-155F4C47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414-F4B6-4D26-BC8B-7F8DE9AE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64F-E484-4FE4-9804-3223BD5F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644-4F34-472C-850B-A0A8A06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C18-6DD7-4AA6-A501-728EE481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79A8-6A26-408F-86A3-88D68B00FA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200" y="6202440"/>
            <a:ext cx="40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orldofteaching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F31-4D24-407E-89ED-9EC0289F45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036-028E-4C8C-A88C-1B49E169AD2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8B30-B08D-460C-9BC2-27164CABB0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02C7-0BFD-4D5C-B47F-F5DB890C46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quare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7C8D-C315-4506-B08D-EC4971B8D0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tha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 many squares fit inside that shape (if measured in feet…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 feet…if meters…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8034-1014-46D7-A539-BBB06565C6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64EF-BA96-4B7E-A70D-84E4B62981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4F22-73C9-4A29-8F64-B3F32AF153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AA8D-3898-413A-9F39-C3FE512ECF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251D-FB71-49CB-A6D3-9F53AE3ECF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F725-BDE8-4AB3-A98C-560169A12A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96F8-0D87-4B8C-B1CD-190AA416F0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 ½ because ½ of the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quar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D74B-5C9C-48F0-BDF0-AC2675642B9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7657-9328-4CA3-B586-608609D783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3127-3176-4CCF-B1D1-24CEB96901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5AC-26EF-474B-971D-1ACD3A79B5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</a:t>
            </a: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5362-B9D3-49EA-BAE9-8F7881EDC0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D32B-1FF3-4C5C-938F-2274B2DC19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C060-3F0D-43C1-96A6-63520512B9A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ach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 line segment of the 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ence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450C-0EA0-4576-8684-1DBAD2F0BA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77E3-327D-4AA1-8C83-439034AA13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5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AE75-5832-4EB1-BB7A-AD2CE92D40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AB37-3E32-4262-A9F4-2504BB714C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a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EA93-5BE4-4BE1-89EF-4EA208F29A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ashleigh.stone Stone</cp:lastModifiedBy>
  <dcterms:modified xsi:type="dcterms:W3CDTF">2012-03-10T16:11:17Z</dcterms:modified>
  <cp:revision>15</cp:revision>
  <dc:subject/>
  <dc:title>Formulas for Geometry</dc:title>
</cp:coreProperties>
</file>